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7342-9062-417F-B878-FCA4739F1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96C9-5929-451B-96D2-EA24565EF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937C-1FB8-43A0-B97F-18F4B70CC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3655-5D4A-4328-8E21-B44B316C5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4591-7727-4383-BE64-27E16B4FF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6A71-7EC7-4B90-8C83-E98DDDF43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53F3-6A0F-429D-A3E8-33A63CF58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75F8-5B35-4A61-A202-97DC96677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0D99-0471-4B6B-BBA8-C77C31125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D225-2D26-4B8D-A5D0-34AFADAC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CB19-0B32-4953-821A-C29202B0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11E3-D402-4C93-80FD-AF3C196C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ff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EE4C9-B290-49AD-9650-58C1DDD5E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ff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10280" y="5181480"/>
            <a:ext cx="19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tchell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-11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7 Computer #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14400" y="838080"/>
            <a:ext cx="70866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prstDash val="lgDashDot"/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3333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UNO</a:t>
            </a:r>
            <a:endParaRPr b="0" lang="en-US" sz="1800" spc="1" strike="noStrike">
              <a:ln w="12600">
                <a:solidFill>
                  <a:srgbClr val="000000"/>
                </a:solidFill>
                <a:prstDash val="lgDashDot"/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333399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" name="" descr="Gulak"/>
          <p:cNvPicPr/>
          <p:nvPr/>
        </p:nvPicPr>
        <p:blipFill>
          <a:blip r:embed="rId1"/>
          <a:srcRect l="55444" t="0" r="11958" b="0"/>
          <a:stretch/>
        </p:blipFill>
        <p:spPr>
          <a:xfrm>
            <a:off x="914400" y="4419720"/>
            <a:ext cx="2286000" cy="2057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191120" y="3962520"/>
            <a:ext cx="380880" cy="304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86200" y="48006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: Ben Gul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6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7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0" dur="2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3" dur="2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ff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Gulak"/>
          <p:cNvPicPr/>
          <p:nvPr/>
        </p:nvPicPr>
        <p:blipFill>
          <a:blip r:embed="rId1"/>
          <a:srcRect l="55444" t="0" r="11958" b="0"/>
          <a:stretch/>
        </p:blipFill>
        <p:spPr>
          <a:xfrm>
            <a:off x="2438280" y="228600"/>
            <a:ext cx="4038840" cy="3733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28600" y="5715000"/>
            <a:ext cx="435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, MIT Program,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Un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5/16/11,http://web.mit.edu/invent/iow/gulak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0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ff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/U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o is a one wheeled motor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an electric b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ctually has two wheels connected to each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uses computer technology to bal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ctually legal on stre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ff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/Ben Gul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born in Canada in 19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on second place with Uno in a humongous science f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on Jay Leno with Uno in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inherited the equipment to build the Uno  when his grandpa died in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ent to China and saw all the pollution and that’s what made him decide to build the U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6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2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5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8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1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4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1T17:58:12Z</dcterms:created>
  <dc:creator>install</dc:creator>
  <dc:description/>
  <dc:language>en-US</dc:language>
  <cp:lastModifiedBy>install</cp:lastModifiedBy>
  <dcterms:modified xsi:type="dcterms:W3CDTF">2011-06-01T17:44:26Z</dcterms:modified>
  <cp:revision>9</cp:revision>
  <dc:subject/>
  <dc:title>Slide 1</dc:title>
</cp:coreProperties>
</file>